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380880"/>
            <a:ext cx="83059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228600"/>
            <a:ext cx="0" cy="61722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52280"/>
            <a:ext cx="2667240" cy="38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ML-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Verdana"/>
              </a:rPr>
              <a:t>XML-Grundlagen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führung in die Extensible Markup Langu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tax, Aufbau, Einsatz, Beispi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9436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fan Hey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ttelberger GmbH, Reutlingen, www.kittelberg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85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wickler-Konferenz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k2000_logo" descr=""/>
          <p:cNvPicPr/>
          <p:nvPr/>
        </p:nvPicPr>
        <p:blipFill>
          <a:blip r:embed="rId1"/>
          <a:stretch/>
        </p:blipFill>
        <p:spPr>
          <a:xfrm>
            <a:off x="6629400" y="609480"/>
            <a:ext cx="190512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828800"/>
            <a:ext cx="1676160" cy="6094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-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1828800"/>
            <a:ext cx="3886200" cy="6094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1828800"/>
            <a:ext cx="1676520" cy="6094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-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31200" y="29019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2720" y="2971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inz Rühm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560" y="2971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30840" y="4038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rei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2360" y="410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920" y="4108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ei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: Start-T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ht in &lt;spitzen&gt; Klamm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: Beginnt mit Buchstabe, ‘_’ oder ‘: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itere Zeichen: A..Z, a..z, 0..9, ‘.’, ‘-’, ‘_’, ‘: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e alles in XML: Name is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Se-SeNsItIv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763560" y="4267080"/>
            <a:ext cx="306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long-descri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hort-Descrip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: Attribu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ribute eines Elements werden im Start-Tag noti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gemein: name=“wer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führungszeichen (einfach oder doppelt) sind Pflich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rtangabe ist Pfli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763920" y="4952880"/>
            <a:ext cx="5514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eis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aehrung=“DEM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ustom-attribut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ame=‘template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: Inhal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halt [Element Content] kann sei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e (Schachtelun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DATA-Sektion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ity-Referenz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ing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mment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s Element: End-T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bschluss eines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rägstrich, gefolgt vom Element-N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763920" y="4952880"/>
            <a:ext cx="3076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is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-attribute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ere” Eleme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Empty Elements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Elemente ohne Content. Die Information i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den Attribu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zw. da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Vorhandense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zielle Notation erlaub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763920" y="4419720"/>
            <a:ext cx="581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is waehrung=“DEM” wert=“12.50”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 name=“Schuhe”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s Element: Vordefinierte Attribu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 gibt in XML zwei vordefinierte Attribu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:lang gibt die Sprache eines Elements a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:lang=“de-DE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:lang=“en-US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:space gibt an, ob Whitespaces erhalten werden solle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:space=“preserve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:space=“default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-Inhal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er Text mit allen Unicode-Ze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ht erlaubte Zeichen (&lt;, &amp;) müssen durch di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vordefinierten Entiti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otiert werde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lt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gt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amp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apos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'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quot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-Inhal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icht darstellbare Zeichen werden durch “Character References” notie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&amp;#x20AC;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€ [EURO SIGN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&amp;#38;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&amp; [AMPERSAND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DATA-Sektion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ere Notation für Tex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nn viele Markup-Zeichen vorkommen (z.B. Quellcod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763920" y="3886200"/>
            <a:ext cx="5514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![CDATA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 &lt; B THEN Min := A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]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048120" y="4876560"/>
            <a:ext cx="4195440" cy="856440"/>
            <a:chOff x="3048120" y="4876560"/>
            <a:chExt cx="4195440" cy="856440"/>
          </a:xfrm>
        </p:grpSpPr>
        <p:sp>
          <p:nvSpPr>
            <p:cNvPr id="95" name=""/>
            <p:cNvSpPr/>
            <p:nvPr/>
          </p:nvSpPr>
          <p:spPr>
            <a:xfrm flipV="1">
              <a:off x="3048120" y="48765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71960" y="5334120"/>
              <a:ext cx="40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üsste sonst “gequotet” wer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gebungsbedingung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önnen Sie mich höre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umtemperatur, Lüftung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y au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önne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s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i Fragen: frage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schwätz schwäbis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hachtelung von Element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e können geschachtelt werd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ent = ein oder mehrere Ele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durch entsteht die Baum-Struktur einer XML-Instan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in XML-Dokumen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genau ein E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ispiel: Bestellu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066680"/>
            <a:ext cx="7848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?xml version="1.0" encoding="iso-8859-1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OR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efan Heymann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address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utlingen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addre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DAT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ite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dno=“10238” count=“1”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sselblad 501 CM body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pri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rr=“DEM” amt=“2355”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ite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dno=“20032” count=“1”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rl Zeiss Planar Lens CB 2.8/80 mm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pri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rr=“DEM” amt=“1233”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DAT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/OR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hachtelung von Element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68600" y="1676520"/>
            <a:ext cx="383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vis Presley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address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aceland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/addre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971800"/>
            <a:ext cx="7848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achtelungstiefe belie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-Tag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üss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orhanden s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üss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korrekt geschachtel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920" y="5443560"/>
            <a:ext cx="277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&lt;/a&gt;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/B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alsc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1880" y="5410080"/>
            <a:ext cx="277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/B&gt;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sing Instructions (PI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zielle Notation für Anweisungen an den Par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halt beliebig. Gängig sind “Pseudo-Attribut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63560" y="4343400"/>
            <a:ext cx="2923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targe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hal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560" y="5486400"/>
            <a:ext cx="780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xml-styleshe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ype="text/xml" href="#style1”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omment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e bei HTML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&lt;!-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omment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mmentar darf keine aufeinander folgenden Bindestriche enthal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ine Schachtelung mögli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763920" y="4952880"/>
            <a:ext cx="4905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!-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ch bin ein Kommentar.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85160" y="2743200"/>
            <a:ext cx="51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XML-Desig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ruktur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quenzen und Verschachtelungen in einer Dat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durch praktisch alle Informationen abbildb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snahme: Binäre Da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erarbeit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 ist eine “Meta-Sprache”, d. h. es muss erst auf Basis von XML eine (Applikations-) Sprache entwickelt werd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s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zerlegt die XML-Daten in ihre Teile und reicht sie weiter an ei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plikatio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e sie dann interpretiert und verarbeit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bei kann di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ültigke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[Validity] der XML-Daten geprüft werd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ültigkei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 gibt drei Arten von XML-Instanze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gültige (falsche) [invalid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hlgeformte [well-formed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ültige [valid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: Struktu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 der Erstellung eines DB-Desig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kation der Struk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bildung auf XML-Struktur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quenz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schachtel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stlegung von Element- und Attribut-Na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halts-Übersich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griffsbestimmung, Geschich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ntax (Elemente, Tags, usw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-Desig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c (Beispiele, Parsing, etc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: Inhal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-Inhalt oder Attribut-Wer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t-Inhalt: Normalisierung durch Applikation beeinflussba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ress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ayernstraße 8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72768 Reutling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adress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-Wert: Normalisierung gemäß Spezifikation. Üblicherweise “kurze” Wert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ame first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“Elvis 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last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“Presley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13720" y="3048120"/>
            <a:ext cx="207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Mis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wendungen von XM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2B-Transaktionen (EDI, E-Busine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stellungen, Liefer-Abru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kt-Kataloge, Produkt-Kategorisi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nbank-Export/Im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nspeich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ierung von HTML, WML, PDF, usw. aus XML + Stylesheet (CSS/XS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ttform-Unabhängigkei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-Dateien sind Text-Datei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 XML-Dateien sind Unico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&amp;#x20AC; €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fene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selbst ist “offen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shop enfinity Produkt-Katal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214560" y="1752480"/>
            <a:ext cx="107424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product sku="0 601 120 503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template&gt;gw/product.isml&lt;/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mage&gt;/images/gw/products/GW_BG/GW_BG_BM/gbm16-2re_thumb.jpg&lt;/im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product-type name="GEW_WKZ_BOHR_4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list-price-used&gt;0&lt;/list-price-us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ategory-link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ategory-link name="GEW_WKZ_BOH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category-link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name xml:lang="de-DE"&gt;GBM 16-2 RE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short-description xml:lang="de-DE"&gt;Steuer-Electronic - f</a:t>
            </a:r>
            <a:r>
              <a:rPr b="1" lang="de-DE" sz="1400" spc="-1" strike="noStrike">
                <a:solidFill>
                  <a:srgbClr val="ff0000"/>
                </a:solidFill>
                <a:latin typeface="Courier New"/>
              </a:rPr>
              <a:t>Ã¼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 exaktes Anbohren&lt;/short-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PDF" xml:lang="de-DE"&gt;/pdf/GBM-16-2re.pdf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Produktbild_gross"&gt;/images/gbm16-2re_gross.jpg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Abgabeleistung" xml:lang="de-DE"&gt;570 W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Maschinengewicht" xml:lang="de-DE"&gt;3,7 kg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Bohrdurchmesser in Stahl" xml:lang="de-DE"&gt;8 mm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Bohrdurchmesser in Holz" xml:lang="de-DE"&gt;40 mm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ustom-attribute name="Bohrdurchmesser in Alu" xml:lang="de-DE"&gt;13 mm&lt;/custom-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custom-attribut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produc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e XML-Spezifikation selb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4000" y="2114640"/>
            <a:ext cx="810576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p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ML documents are made up of storage units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termref def="dt-entity"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ies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termref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which cont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ither parsed or unparsed data.Parsed data is made up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termref def="dt-character"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acters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termref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so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ch form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termref def="dt-chardata"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acter data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termref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some of which form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termref def="dt-markup"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rkup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termref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rkup encodes a description of the document's storage lay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logical structu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ML provides a mechanism to impose constraints on the stor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yout and logical structure.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eless Markup Language (W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WML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01140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: W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828800"/>
            <a:ext cx="77356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wml&gt;  </a:t>
            </a:r>
            <a:r>
              <a:rPr b="1" lang="de-DE" sz="1400" spc="-1" strike="noStrike">
                <a:solidFill>
                  <a:srgbClr val="808080"/>
                </a:solidFill>
                <a:latin typeface="Courier New"/>
              </a:rPr>
              <a:t>[..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card id="startup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onevent type="onenterbackward"&gt;      &lt;prev/&gt;    &lt;/onev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onevent type="ontim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go href="http://wap.otto.de/servlet/WelcomeServlet?clientId=1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onev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timer value="25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p align="cent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mg src="http://wap.otto.de/ottoproj/wap/ottologo.wbmp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alt="Willkommen bei Otto!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br/&gt;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a href="http://wap.otto.de/servlet/WelcomeServlet?clientId=1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tle="Hauptmen&amp;#252;"&gt;--&gt; Hauptmen&amp;#252;&lt;/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br/&gt;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anchor title="Zur&amp;#252;ck"&gt;--&gt; Zur&amp;#252;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prev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anc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ca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w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ispiele: Datenbank-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44792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?xml version="1.0" encoding="UTF-8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DBEXPORT version="1.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sql-select&gt;select * from p$catalogcategories&lt;/sql-sele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 name="CCAT_ID" type="number" mandatory="true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 name="PARENT_CCAT_ID" type="numb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 name="NAME" type="string" len="150“ mandatory="true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def name="SHORTDESC" type="string" len="2000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fielddef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cont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record index="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 name="CCAT_ID"&gt;1&lt;/fie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 name="PARENT_CCAT_ID"&gt;&lt;/fie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 name="NAME"&gt;Marken&lt;/fie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field name="SHORTDESC"&gt;Bosch&lt;/fie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recor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cont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DBEXPO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rtige” XML-Standard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ML (Wireless Markup Langu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VG (Scalable Vector Graphi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ML (Mathematical Markup Langu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shop enfi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Ecat (Produkt-Katalog-Datenaustaus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ztalk, cXML (Commercial XM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AP 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imple Object Access Protoco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SL, XSLT, XML-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63240" y="2743200"/>
            <a:ext cx="4458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Einleitu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ML Par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lidating/non-validating Par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nt-gesteuert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fbau eines Objekt-Baums im Speicher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le not eof: destructor.de-Par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kte: MSXML, OpenXML, CUEsoft, destructor.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XML-Verarbeit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505320"/>
            <a:ext cx="373356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19520" y="1828800"/>
            <a:ext cx="3990240" cy="1676160"/>
            <a:chOff x="2819520" y="1828800"/>
            <a:chExt cx="3990240" cy="1676160"/>
          </a:xfrm>
        </p:grpSpPr>
        <p:sp>
          <p:nvSpPr>
            <p:cNvPr id="149" name=""/>
            <p:cNvSpPr/>
            <p:nvPr/>
          </p:nvSpPr>
          <p:spPr>
            <a:xfrm>
              <a:off x="2819520" y="1828800"/>
              <a:ext cx="37335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Verdana"/>
                </a:rPr>
                <a:t>Appl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648320" y="2742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36160" y="2895480"/>
              <a:ext cx="20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Verarbeit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971800" y="4419720"/>
            <a:ext cx="3526560" cy="1904760"/>
            <a:chOff x="2971800" y="4419720"/>
            <a:chExt cx="3526560" cy="1904760"/>
          </a:xfrm>
        </p:grpSpPr>
        <p:sp>
          <p:nvSpPr>
            <p:cNvPr id="153" name=""/>
            <p:cNvSpPr/>
            <p:nvPr/>
          </p:nvSpPr>
          <p:spPr>
            <a:xfrm>
              <a:off x="2971800" y="5334120"/>
              <a:ext cx="3352680" cy="99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Verdana"/>
                </a:rPr>
                <a:t>XML-Date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4419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40920" y="449568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Zerleg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Prüf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44280" y="2743200"/>
            <a:ext cx="350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Fragen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23040" y="2971800"/>
            <a:ext cx="31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&lt;/talk&g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r XML-Standar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si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ku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u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ie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GML-kompatib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nfacher als SG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hler von HTML vermei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nfach zu erzeugen und verarbei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ldWideWeb Consortium (W3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ion 1.0: 10. Februar 199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s ist XML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ine Programmier-Sprach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ine Layout-Sprach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icht der HTML-Nachfol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Ja was denn nu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in Dateiformat zur Speicherung strukturierter Information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ispiel: Bestellu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066680"/>
            <a:ext cx="7848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?xml version="1.0" encoding="iso-8859-1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OR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efan Heymann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address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utlingen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addre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DAT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ite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dno=“10238” count=“1”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sselblad 501 CM body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pri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rr=“DEM” amt=“2355”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ite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dno=“20032” count=“1”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rl Zeiss Planar Lens CB 2.8/80 mm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&lt;pric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urr=“DEM” amt=“1233”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9999"/>
                </a:solidFill>
                <a:latin typeface="Courier Ne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&lt;/DAT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/OR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85600" y="2743200"/>
            <a:ext cx="511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XML-Synta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r “XML-Prolog”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-Ver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ding (Zeichensatz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ht ganz am Anfang jeder Dat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763560" y="4038480"/>
            <a:ext cx="68864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xm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sion=“1.0” encoding=“UTF-8”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?xm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sion=“1.0” encoding=“iso-8859-1”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17:09:26Z</dcterms:created>
  <dc:creator>Stefan Heymann</dc:creator>
  <dc:description/>
  <dc:language>en-US</dc:language>
  <cp:lastModifiedBy>Stefan Heymann</cp:lastModifiedBy>
  <dcterms:modified xsi:type="dcterms:W3CDTF">2000-09-28T20:51:20Z</dcterms:modified>
  <cp:revision>29</cp:revision>
  <dc:subject/>
  <dc:title>XML-Grundlagen</dc:title>
</cp:coreProperties>
</file>